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14C-BD2B-460B-A0AE-F6FB1887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E0B-46DA-441B-AFED-A84682C0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746-A142-40F5-8F86-8EF0772F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2AF-9EF7-46CE-947D-064B09E8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25BB-131D-4B8F-B6EE-A3EC324E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D59F-DDDF-4A8C-A14D-89F70E21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366E-67AF-460B-812A-2EA2CCB4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7DDD-C86A-4D3F-A3CD-CD0D8A8B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6E09-5DE5-455B-8C75-7D6977F6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4DF3-E7E1-45D2-8A6A-09DC5D3C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40AD-697F-4210-A9D5-9FDC5CFD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447-16D2-4B7E-B8CE-789986D9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3CBC-F4FA-4120-9BCE-6F3BB926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0161-9417-477F-AD81-75DA7AB1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8D63-7095-483B-A079-41E95934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8058-8983-4746-BDF2-90AFE241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A20F-CC71-47B7-A2DB-44C72516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1384C-FE05-4877-9074-BE2A83CC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C33E0-AEC0-4494-B87E-31F49E74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A88DA-F464-431D-BA09-AB2817EE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3E978-FC60-44B5-835B-9FDC366D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144DD-B9CF-40F4-97E2-1B63275F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679-BAF2-46CD-AF1C-B0E0E501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72C42-F4C9-412B-85D0-ABFACB55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5D783-333E-4143-BF66-09D56187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F3D36-E5D1-42BE-AA15-666C4451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2231-CB34-42A3-964F-DA2AA501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08F3F-3C8A-4C6D-9186-EDF65D5B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38613-EA64-4DA4-B386-260BC8F8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1FCDA-AA88-4EBC-8B6F-465DD8A2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8B3DF-2C8A-43E6-AE4C-04D86273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6DCDD-7B3A-4BB2-98AE-E062ADDB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4DF8C-6835-4829-B6DF-3BFBDAF3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863-55BA-4B40-99B3-27BCF554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88299-3FC5-4211-AA10-B57426B5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9F30E-D216-48FA-A29D-CAEABCCA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9432E-0B95-4C24-9461-7219BE86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291BF-AD05-4535-802C-06414A73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2A844-8931-4C3E-BE8E-ADB11132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4E85A-8DED-42B9-9BA6-A14CFDD9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BC009-F325-4B22-ADEF-9A0FDC56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79FB9-31A0-47BC-AB3C-4EBEF24B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950F1-3DC0-4F8B-AB2C-5775FF3C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C7D3E-ABC2-4708-B5D0-0EBC1935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54A-4E46-4948-A7DD-335BC47A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0F15F-0066-4D23-A9CC-2E79945F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E5346-8E8B-4362-95E9-21784162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53A08-0B58-4CE1-8E76-5A82165A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FD75F-2564-475C-84B1-DED77B54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E5373-10FC-4FB9-B751-63410A85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5720D-4FC5-4469-AC47-A2FCC94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88308-3CAC-4CBE-8B66-12EF4FE4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2D283-467D-430E-A74E-07023CD5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67173-3180-490E-8520-8ACE2E4F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9A95C-707C-4594-A348-13BB96AE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D63-C9D8-4A23-9CBE-3500500E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6FBDE-2693-4EA7-9ECC-94388B11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6EFE5-B58A-4404-8481-D24D1330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04815-456F-40FA-89C4-0CC35AAC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8046F-34FD-432E-AA54-E65B7CE6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13AF8-5980-450A-8B23-9F7033EF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9C16C-72D9-43C6-8DBD-47EB43B2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A52B9-B813-4935-B443-27107683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F180E-5DD9-4F79-BEF2-AB9B6846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2F142-2583-44D1-9031-B5B67CB6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ADE07-4E53-44EC-986B-3FDF608C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6EAA-E098-47D5-9F11-A77925A1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8E78A-3CAD-4C8C-A549-0FB7C6F7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952A3-FEDE-487B-95EB-9D8D7D91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F6921-3CC3-4B4B-BDB2-F8DA401C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7E133-FE1E-41BA-AF37-E364D58B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372E2-201C-4AA0-A16A-F3EA5C03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9891B-0810-4937-889D-DA30841F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1688A-E306-4390-A783-BC93CC63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5994D-8673-4131-912C-AD620D7D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67DC8-4018-41AE-8A8C-56BA0637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BD7E3-8D42-459F-82F1-A460E723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D6D-5145-4846-BDD2-B3F4F5C8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C4A71-125B-4DD7-9C25-474C490C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34083-2BEB-47AD-B49E-93ABBB70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5146C-2CD3-476E-8E00-7133E0E8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F785B-B4FB-4145-B771-899D6FE3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B32EF-F6B3-429D-B7D0-D8E5D559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9899-1F6C-4459-9FC9-256C19CF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E9E1-CA1F-43CC-965C-6166D9553E37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5819-F064-4773-B295-3ACEC3C69796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481C-34EB-4521-B13E-20E0C63BB6F9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A86E-C936-46EE-8236-BD49C03F59E2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6C39-7944-4859-BE2A-0AA72DCA7232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6178-482C-491F-ABE1-CCAEC925AEB5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AD13-8CAD-4B94-AEE8-5BF7EC5DEC7E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.uk/imgres?imgurl=http://blogs.browardpalmbeach.com/juice/Mean%2520Girls.jpg&amp;imgrefurl=http://blogdailyherald.com/author/alicia/&amp;usg=__ecddIfGJnh3JW7PAKYg9bP_64E0=&amp;h=500&amp;w=355&amp;sz=41&amp;hl=en&amp;start=16&amp;zoom=1&amp;um=1&amp;itbs=1&amp;tbnid=Mo3_9PuvSkZ9kM:&amp;tbnh=130&amp;tbnw=92&amp;prev=/images%3Fq%3Dmean%2Bgirls%26um%3D1%26hl%3Den%26tbs%3Disch: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.uk/imgres?imgurl=http://merenwen.freeblog.hu/files/Thirteen-2003.jpg&amp;imgrefurl=http://merenwen.freeblog.hu/categories/Filmek/&amp;usg=__TL6Slz5giQpyKBFqDoIYZnnGBV0=&amp;h=594&amp;w=400&amp;sz=77&amp;hl=en&amp;start=2&amp;zoom=1&amp;um=1&amp;itbs=1&amp;tbnid=GIeS1BQfWu_FoM:&amp;tbnh=135&amp;tbnw=91&amp;prev=/images%3Fq%3D13%2Bfilm%26um%3D1%26hl%3Den%26tbs%3Disch: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co.uk/imgres?imgurl=http://data-allocine.blogomaniac.fr/mdata/1/6/7/Z20051005084305673584761/img/1161867258_pink_ladies.jpg&amp;imgrefurl=http://picsdigger.com/keyword/pink%2520ladies%2520from%2520grease/&amp;usg=__9CEaisvYf70mJwhGoqIjZRp0iPo=&amp;h=262&amp;w=500&amp;sz=90&amp;hl=en&amp;start=3&amp;zoom=1&amp;um=1&amp;itbs=1&amp;tbnid=IucQNjfc9L7wsM:&amp;tbnh=68&amp;tbnw=130&amp;prev=/images%3Fq%3Dgrease%2Bpink%2Bladies%26um%3D1%26hl%3Den%26tbs%3Disch:1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ogle.co.uk/imgres?imgurl=http://www.barrylou.com/art/junoPoster2.jpg&amp;imgrefurl=http://www.barrylou.com/juno.html&amp;usg=__UE_76KSlSE_lmLZJDRo-gWcwqdM=&amp;h=781&amp;w=500&amp;sz=248&amp;hl=en&amp;start=3&amp;zoom=1&amp;um=1&amp;itbs=1&amp;tbnid=DX8xyvuw18URwM:&amp;tbnh=143&amp;tbnw=92&amp;prev=/images%3Fq%3Djuno%26um%3D1%26hl%3Den%26tbs%3Disch:1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kidspast.com/images/socrates.jpg&amp;imgrefurl=http://www.kidspast.com/world-history/0071-socrates.php&amp;usg=__dNHE_e6QK9x0QKGMK_r-x66XIT0=&amp;h=400&amp;w=301&amp;sz=89&amp;hl=en&amp;start=2&amp;zoom=1&amp;um=1&amp;itbs=1&amp;tbnid=4Ysro5ee5Am4vM:&amp;tbnh=124&amp;tbnw=93&amp;prev=/images%3Fq%3Dsocrates%26um%3D1%26hl%3Den%26tbs%3Disch: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he_Wild_One" TargetMode="External"/><Relationship Id="rId2" Type="http://schemas.openxmlformats.org/officeDocument/2006/relationships/hyperlink" Target="http://www.filmsite.org/rebel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A Level Media Stud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2" descr="http://t3.gstatic.com/images?q=tbn:Mo3_9PuvSkZ9kM:http://blogs.browardpalmbeach.com/juice/Mean%2520Girl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692280"/>
            <a:ext cx="1477800" cy="2087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http://t2.gstatic.com/images?q=tbn:GIeS1BQfWu_FoM:http://merenwen.freeblog.hu/files/Thirteen-200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360" y="404640"/>
            <a:ext cx="1403640" cy="2082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http://t0.gstatic.com/images?q=tbn:IucQNjfc9L7wsM:http://data-allocine.blogomaniac.fr/mdata/1/6/7/Z20051005084305673584761/img/1161867258_pink_ladies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6920" y="1773360"/>
            <a:ext cx="2287800" cy="1197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http://t1.gstatic.com/images?q=tbn:DX8xyvuw18URwM:http://www.barrylou.com/art/junoPoster2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356000" y="1052640"/>
            <a:ext cx="14032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1eeff"/>
                </a:solidFill>
                <a:latin typeface="Consolas"/>
              </a:rPr>
              <a:t>1990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Notable decade for teenager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Kurt Cobain commits suicid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Columbine high school shootings take plac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Filmmakers felt they had to be careful about the way they represented high school as teenagers are considered to be highly influenti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merican Pie (1999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 teen sex comedy that claimed to be a true representation of teenager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09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1eeff"/>
                </a:solidFill>
                <a:latin typeface="Consolas"/>
              </a:rPr>
              <a:t>13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2003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Catherine Hardwicke and Nikki Rei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Oscar nominat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Autobiographical film based on Reid’s life when she was 12/13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Controversy due to issues such as underage sex, drugs and self-har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556400" y="0"/>
            <a:ext cx="15876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1eeff"/>
                </a:solidFill>
                <a:latin typeface="Consolas"/>
              </a:rPr>
              <a:t>Easy 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201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ill Gluc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Teen romantic come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nfluenced by The Scarlet Let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20955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1eeff"/>
                </a:solidFill>
                <a:latin typeface="Consolas"/>
              </a:rPr>
              <a:t>Homewor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Complete an analysis of representation of teenage girls on a broadcast platfor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TV or fil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ednesday 10th Novemb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Socrat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"Our youth now love luxury. They have bad manners, contempt for authority; they show disrespect for their elders and love chatter in place of exercise; they no longer rise when elders enter the room; they contradict their parents, chatter before company; gobble up their food and tyrannize their teachers."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6" name="Picture 2" descr="http://t3.gstatic.com/images?q=tbn:4Ysro5ee5Am4vM:http://www.kidspast.com/images/socrat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498636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Historical Contex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8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orbel"/>
              </a:rPr>
              <a:t>1920s/1930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Films about teenagers focused on adult fears of youth rather than discussing problems and issues teenagers had to fac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oral codes of the time dictated that onscreen teens would be focused on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ir families, schools, and friends, rarely displaying any adolescent angst over their sexual development, alcohol or drug use, or rebellious impulses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Mickey Rooney – Andy Hardy film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4292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orbel"/>
              </a:rPr>
              <a:t>1940s/1950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After WW2 teenagers became a distinct social group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Producers realised this was the group to target if they wanted to make mone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Juvenile delinquency was the only teenage issue tackled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PHEBIPHOBIA (fear of teenagers) swept the country in the mid-1950s, in the midst of the appearance of rock 'n' roll music</a:t>
            </a:r>
            <a:br>
              <a:rPr sz="20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Historical Contex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268280"/>
            <a:ext cx="7772400" cy="50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Many critics consider the post WW2 era as the advent of what is commonly referred to as the teen movie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Post war films like </a:t>
            </a:r>
            <a:r>
              <a:rPr b="0" lang="en-GB" sz="23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The Wild One</a:t>
            </a: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 (1953) &amp; </a:t>
            </a:r>
            <a:r>
              <a:rPr b="0" lang="en-GB" sz="23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Rebel Without A Cause (1955)</a:t>
            </a: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 were some of the first to represent a generation of angry teens with different values to those of their parents...known as Inter Generational Conflict!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The parents are usually represented as conservative, boring and submissive to the status quo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Indeed, the transition between teenager and adult or the 'coming of age' has been a recurring theme of teen movies since the 50s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Rebel Without a Caus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Nicholas Ray, 195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James De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Spokesperson for an entire generation of teenager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Hayes Code meant restri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Up until this point teenagers had been seen as a problem to be solv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Dean as the ‘outsider’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4" name="Picture 2" descr="http://t2.gstatic.com/images?q=tbn:z3VuVlEVzqA_lM:http://thisdistractedglobe.com/wp-content/uploads/2007/01/RebelWithoutACause5.jpg"/>
          <p:cNvPicPr/>
          <p:nvPr/>
        </p:nvPicPr>
        <p:blipFill>
          <a:blip r:embed="rId1"/>
          <a:stretch/>
        </p:blipFill>
        <p:spPr>
          <a:xfrm>
            <a:off x="7380360" y="476280"/>
            <a:ext cx="1512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1eeff"/>
                </a:solidFill>
                <a:latin typeface="Consolas"/>
              </a:rPr>
              <a:t>The Outsid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Corbel"/>
              </a:rPr>
              <a:t>More recently The O.C. revisits this idea with Ryan Atwood playing the role of the kid from the wrong side of the tracks.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Corbel"/>
              </a:rPr>
              <a:t>Inevitably the main protagonist will go through a painful journey of growth, which many teens can identify with. This can also be seen in films like Grease (1978) and Mean Girls (2004).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Corbel"/>
              </a:rPr>
              <a:t>The importance of individuality and how issues of identity are reconciled with the dominant groups in school are a mainstay of this genre type.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Corbel"/>
              </a:rPr>
              <a:t>(Stereotypical groups and stock characters would include nerds, school jocks, Class President, The Princess, Those destined for college, emo kids etc)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Corbel"/>
              </a:rPr>
              <a:t>Often themes of love are dealt with as part of the resolution acting as a form of mythical rites of passage before adulthood. </a:t>
            </a:r>
            <a:br>
              <a:rPr sz="2100"/>
            </a:br>
            <a:r>
              <a:rPr b="0" lang="en-GB" sz="21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7839000" y="0"/>
            <a:ext cx="1305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1eeff"/>
                </a:solidFill>
                <a:latin typeface="Consolas"/>
              </a:rPr>
              <a:t>Carri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An interesting comparative text and variation on a theme is Carrie (1978)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This is a revenge film in which the teen genre is combined with horror offering Carrie the opportunity to challenge the usual, 'new equilibrium' (Todorov) by reeking a terrible vengeance on her 'enemies.'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Also note that the film begins in an explicit and shocking manner by showing Carrie having a period in the shower, thereby challenging the male gaze whilst foregrounding the importance of transition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The fact she discovers her 'monstrous powers' at the time of menstruation offers obvious links with feminism and this emerging movement in the 70s. </a:t>
            </a:r>
            <a:br>
              <a:rPr sz="2300"/>
            </a:br>
            <a:r>
              <a:rPr b="0" lang="en-GB" sz="23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837560" y="0"/>
            <a:ext cx="13064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1eeff"/>
                </a:solidFill>
                <a:latin typeface="Consolas"/>
              </a:rPr>
              <a:t>The Breakfast Club - 1985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989000"/>
            <a:ext cx="7772400" cy="43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1980s – seminal decade for teenage fil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This classic teen movie still resonates with contemporary audienc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5 typical teen movie characters – the princess, the athlete, the basket case, the criminal and the brai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380360" y="4581360"/>
            <a:ext cx="1563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1eeff"/>
                </a:solidFill>
                <a:latin typeface="Consolas"/>
              </a:rPr>
              <a:t>Heathers - 1989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Reflective representation – a spate of teen suicides in USA in 1986 and 1987 and Heathers is reflective of thi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A dark comedy about murder and suicide in a high schoo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A new kind of teen movie – full of typical clichés but with a different view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nstead of focusing on a teen who wants to be part of a clique, the teenager here desperately wants to get out of a cliqu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7899480" y="0"/>
            <a:ext cx="1244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9:33:59Z</dcterms:created>
  <dc:creator>Grainne</dc:creator>
  <dc:description/>
  <dc:language>en-US</dc:language>
  <cp:lastModifiedBy>gbrolly940</cp:lastModifiedBy>
  <dcterms:modified xsi:type="dcterms:W3CDTF">2010-11-04T15:03:40Z</dcterms:modified>
  <cp:revision>19</cp:revision>
  <dc:subject/>
  <dc:title>Teenage Girls in Film</dc:title>
</cp:coreProperties>
</file>